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E2476-ECB2-4FA7-AB3D-E831DA3D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A360-62CB-496D-8D76-0FFC082E8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C884-8FDF-4F3A-B930-37B6997B4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76941-F424-4946-A838-26717489E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3EB01-E956-419B-A6B8-8323D3099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A4D5C-F19A-43BD-A225-188BF8320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3B5F1-8A5D-4EBD-9C9F-A3A854347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B9B67-F3D5-4EC5-9A8A-1E1C40743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95D65-2813-42DF-98ED-E36E5B85C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7CC1-BBF6-4B8E-B448-4E58B1331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0D9EE-9DAC-4B53-923E-7F58DE15D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5C6C1-D324-4157-BA68-F450F7C5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7D8BA-30BA-45BA-8AA1-47E4A08D2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E0563-772C-4CE9-84DE-FB25D48C9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C92C3-3D8B-4592-A9B3-849E5588E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99B7F-722A-4271-BE84-316CB0952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CB446-199D-4781-8C39-8FF174D12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8A8D2-E423-4923-B36F-4B934538D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93FB7-EDD3-4A39-9E16-68CA9B24D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C49AC-B37C-4C05-96E1-6D0CBEAF5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CCA3F-9C8B-4D9E-865F-97ED0C471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2F6DF-8971-4DC4-8243-951233594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45990-FDA8-4410-8FAE-BF99024F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80289A-A5D9-48DD-992A-6F31EABF1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35C26-B867-4E85-B2A4-A216551F1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B8361-619D-42C1-9B36-97EF0C29E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D1076-0100-49AF-943C-31FCFBC9C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10339-4832-46F7-80FD-30C93DCE3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79BFF5-B505-4504-91CC-79C00E8BF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125827-7656-43C9-A918-7CED24889C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321CD2-FFD2-4285-AB47-F15BF2A05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39DA61-84DC-4A55-8844-DA6E98F91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9B4AEC-E729-4ED6-A015-2DD1472F7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336D5-9253-49CF-8973-40519E6FA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B5DC8-FCA7-425C-ACAA-6607F9A72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98633-A192-461B-9B5B-73203C3FE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F3FBE-30F7-4490-85F9-6277BFC54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C8E85-8EBA-4243-87CE-FE75F9846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C78D8-75A3-415B-B5B5-BDF59985B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A0CFE-00DC-4BF1-A581-188508235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4563C-724B-4D76-B49B-AC0AB0A2F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DEC582-E4C2-45A3-A474-F2EC65FE3C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437B2F-9C6E-46E9-8F5F-6EB3174903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13942-BB0C-4C1A-9F42-8F27DAA3ED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DED5-3BF0-4C90-B06C-D9318A47E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87FBF-DC6B-4E8F-872E-EA778D77C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011BD-6E7F-44FE-890C-2BCA2E96B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9DCC0-6F56-4431-A0B5-E180AAE60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784F8A-CD38-4623-BD71-C029F9831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03CD2-B7C9-43B3-98EA-333F455FC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FA9D8-EAD1-47A9-BF63-28DF5E1D4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C8681-3DA5-404B-B187-DD313155B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883DA-A6D3-4339-B507-8D995A99B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ABF29-E785-45A9-AAE5-655929D07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3326A2-5235-4357-BD99-E73E8C9489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268B-644D-4017-ACF7-978C6E7DD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E5868A-F1A6-4BF3-82F7-44DCABD920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B3F166-739E-4D1D-A399-CF5021C3AC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9C5A29-D388-4801-BA95-3E77D7454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08AD1A-6DE4-48FE-980E-EAFD101B02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EF4A3-BD30-4E9D-A6F7-218BF15A35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BF239-8686-48AB-B29E-74588C09D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BAC9FB-6E95-4220-8650-38500610D6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16821-9623-4BF6-A367-E45CA5080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863FE-DF11-48A0-930B-662BC7D3F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F22DA-8C54-4928-ABB6-06CCF41FB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7893-8732-456C-84F2-92C66661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7970F-E541-4E52-B210-DC236191D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189A7-B946-46B2-822A-BD138860E6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9D469F-E6A8-4E6A-866A-BCC8743B26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78D5-A1C1-4830-B56B-8B863B44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D6D3-B051-4838-85C8-ED73C3B4D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D997-BA31-4A70-9D5B-FAA6A8E8BBCA}"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BEAD-35F9-4674-9838-F24A17C78D38}"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2D71-C66C-4DD2-9FE3-7973AC9F1A1B}"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7EFE-AEAB-4A6B-A474-E9C4C18562A3}"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7E89-7C89-4433-BE31-8F86DEF0B5E5}"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D0D0-E4F1-41D7-B12A-F1CF306CBC0B}"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884160" y="628560"/>
            <a:ext cx="7997760" cy="244332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Pelt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arming </a:t>
            </a: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rm populations (in millions)</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40=30.5</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60=13.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acreage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7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9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sons supplied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0.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5.8</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utomobile Culture</a:t>
            </a: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to dealers sold a record of 58 million car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kind of car more power made of chrome and steel and many colors to choose from</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50lesabrefront.jpg"/>
          <p:cNvPicPr/>
          <p:nvPr/>
        </p:nvPicPr>
        <p:blipFill>
          <a:blip r:embed="rId1"/>
          <a:stretch/>
        </p:blipFill>
        <p:spPr>
          <a:xfrm>
            <a:off x="533520" y="990720"/>
            <a:ext cx="7856280" cy="44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rive-ins</a:t>
            </a:r>
            <a:br>
              <a:rPr sz="4000"/>
            </a:br>
            <a:r>
              <a:rPr b="0" lang="en-US"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27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st food drive-in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ive-in movie theatr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iters and waitresses on roller-skat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3" descr="2665619.jpg"/>
          <p:cNvPicPr/>
          <p:nvPr/>
        </p:nvPicPr>
        <p:blipFill>
          <a:blip r:embed="rId1"/>
          <a:stretch/>
        </p:blipFill>
        <p:spPr>
          <a:xfrm>
            <a:off x="2286000" y="533520"/>
            <a:ext cx="4541760" cy="59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ghways</a:t>
            </a: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ighway ac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56 32 billion for construction of more than 40,000 miles of federal highw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682560" y="781200"/>
            <a:ext cx="8126640" cy="2827080"/>
          </a:xfrm>
          <a:prstGeom prst="rect">
            <a:avLst/>
          </a:prstGeom>
          <a:ln w="0">
            <a:noFill/>
          </a:ln>
        </p:spPr>
      </p:pic>
      <p:sp>
        <p:nvSpPr>
          <p:cNvPr id="283"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by:</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Bahurek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rowth of Suburbia</a:t>
            </a:r>
            <a:endParaRPr b="0" lang="en-US" sz="4600" spc="-1" strike="noStrike">
              <a:solidFill>
                <a:srgbClr val="ffffff"/>
              </a:solidFill>
              <a:latin typeface="Franklin Gothic Book"/>
            </a:endParaRPr>
          </a:p>
        </p:txBody>
      </p:sp>
      <p:sp>
        <p:nvSpPr>
          <p:cNvPr id="28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Suburbia</a:t>
            </a:r>
            <a:r>
              <a:rPr b="0" lang="en-US" sz="3000" spc="-1" strike="noStrike">
                <a:solidFill>
                  <a:srgbClr val="ffffff"/>
                </a:solidFill>
                <a:latin typeface="Arial"/>
              </a:rPr>
              <a:t>- Residential areas outside the city</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burbia grew during the 1950’s due to various reasons including: Whites wanting to escape congestion of cities, minorities wanted to escape prejudice, and some just wanted a better life, as it was considered going up in the social chain by going to a suburb.</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dern</a:t>
            </a:r>
            <a:endParaRPr b="0" lang="en-US" sz="4600" spc="-1" strike="noStrike">
              <a:solidFill>
                <a:srgbClr val="ffffff"/>
              </a:solidFill>
              <a:latin typeface="Franklin Gothic Book"/>
            </a:endParaRPr>
          </a:p>
        </p:txBody>
      </p:sp>
      <p:pic>
        <p:nvPicPr>
          <p:cNvPr id="287" name="Content Placeholder 3" descr="suburb.jpg"/>
          <p:cNvPicPr/>
          <p:nvPr/>
        </p:nvPicPr>
        <p:blipFill>
          <a:blip r:embed="rId1"/>
          <a:stretch/>
        </p:blipFill>
        <p:spPr>
          <a:xfrm>
            <a:off x="1509840" y="1719360"/>
            <a:ext cx="5362560" cy="42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merican Dream</a:t>
            </a: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merica now a steady and more or less even lifestyle for most white Americans, however some felt like it was monotonous and was filled with conformity</a:t>
            </a:r>
            <a:endParaRPr b="0" lang="en-US" sz="3000" spc="-1" strike="noStrike">
              <a:solidFill>
                <a:srgbClr val="ffffff"/>
              </a:solidFill>
              <a:latin typeface="Arial"/>
            </a:endParaRPr>
          </a:p>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is new living style and the closeness you have with your neighborhood, people became more social and often joined social groups or clubs to become part of the  commun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rom War to Peace</a:t>
            </a:r>
            <a:endParaRPr b="0" lang="en-US" sz="4600" spc="-1" strike="noStrike">
              <a:solidFill>
                <a:srgbClr val="ffffff"/>
              </a:solidFill>
              <a:latin typeface="Franklin Gothic Book"/>
            </a:endParaRPr>
          </a:p>
        </p:txBody>
      </p:sp>
      <p:sp>
        <p:nvSpPr>
          <p:cNvPr id="25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6 million+ serve during WWII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obilization=the dismantling of U.S. war machine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e duty dropped from 12 mill in 1946 to 1.6 by mid 1947</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n jobs at industries being taken and were converting to peacetime industry from wartim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urrency</a:t>
            </a:r>
            <a:endParaRPr b="0" lang="en-US" sz="4600" spc="-1" strike="noStrike">
              <a:solidFill>
                <a:srgbClr val="ffffff"/>
              </a:solidFill>
              <a:latin typeface="Franklin Gothic Book"/>
            </a:endParaRPr>
          </a:p>
        </p:txBody>
      </p:sp>
      <p:sp>
        <p:nvSpPr>
          <p:cNvPr id="29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isenhower started printing “In God We Trust” on currency and stated, “everybody should have religious faith, and I don’t care what it 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93" name="Content Placeholder 3" descr="in-god-we-trust.jpg"/>
          <p:cNvPicPr/>
          <p:nvPr/>
        </p:nvPicPr>
        <p:blipFill>
          <a:blip r:embed="rId1"/>
          <a:stretch/>
        </p:blipFill>
        <p:spPr>
          <a:xfrm>
            <a:off x="1571760" y="2247840"/>
            <a:ext cx="5238720" cy="33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nventions</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lly Graham, Fulton J. Sheen, and Norman Vincent Peale were all people using the inventions, such as television, to broadcast religious messages and families began flocking to the church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by Boom</a:t>
            </a:r>
            <a:endParaRPr b="0" lang="en-US" sz="4600" spc="-1" strike="noStrike">
              <a:solidFill>
                <a:srgbClr val="ffffff"/>
              </a:solidFill>
              <a:latin typeface="Franklin Gothic Book"/>
            </a:endParaRPr>
          </a:p>
        </p:txBody>
      </p:sp>
      <p:sp>
        <p:nvSpPr>
          <p:cNvPr id="29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rding to statistics of the 1950’s, every 7 seconds, a baby was born</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ring the 1940’s to 60’s, birthrate for 3</a:t>
            </a:r>
            <a:r>
              <a:rPr b="0" lang="en-US" sz="3000" spc="-1" strike="noStrike" baseline="30000">
                <a:solidFill>
                  <a:srgbClr val="ffffff"/>
                </a:solidFill>
                <a:latin typeface="Arial"/>
              </a:rPr>
              <a:t>rd</a:t>
            </a:r>
            <a:r>
              <a:rPr b="0" lang="en-US" sz="3000" spc="-1" strike="noStrike">
                <a:solidFill>
                  <a:srgbClr val="ffffff"/>
                </a:solidFill>
                <a:latin typeface="Arial"/>
              </a:rPr>
              <a:t> and 4</a:t>
            </a:r>
            <a:r>
              <a:rPr b="0" lang="en-US" sz="3000" spc="-1" strike="noStrike" baseline="30000">
                <a:solidFill>
                  <a:srgbClr val="ffffff"/>
                </a:solidFill>
                <a:latin typeface="Arial"/>
              </a:rPr>
              <a:t>th</a:t>
            </a:r>
            <a:r>
              <a:rPr b="0" lang="en-US" sz="3000" spc="-1" strike="noStrike">
                <a:solidFill>
                  <a:srgbClr val="ffffff"/>
                </a:solidFill>
                <a:latin typeface="Arial"/>
              </a:rPr>
              <a:t> children double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of the growth of more people, bigger houses were needed and more schools were buil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Content Placeholder 3" descr="1958babiesatHenryPrideWingKew.jpg"/>
          <p:cNvPicPr/>
          <p:nvPr/>
        </p:nvPicPr>
        <p:blipFill>
          <a:blip r:embed="rId1"/>
          <a:stretch/>
        </p:blipFill>
        <p:spPr>
          <a:xfrm>
            <a:off x="2133720" y="380880"/>
            <a:ext cx="4778280" cy="612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stuff</a:t>
            </a:r>
            <a:endParaRPr b="0" lang="en-US" sz="4600" spc="-1" strike="noStrike">
              <a:solidFill>
                <a:srgbClr val="ffffff"/>
              </a:solidFill>
              <a:latin typeface="Franklin Gothic Book"/>
            </a:endParaRPr>
          </a:p>
        </p:txBody>
      </p:sp>
      <p:sp>
        <p:nvSpPr>
          <p:cNvPr id="30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fter school activities began, Girl scouts and brownies doubled, as well as Little leagues going from 800, to 6,00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y TV programs were added,</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V heroes for kids </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lub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2" name="Content Placeholder 3" descr="brownies-togirlscouts.jpg"/>
          <p:cNvPicPr/>
          <p:nvPr/>
        </p:nvPicPr>
        <p:blipFill>
          <a:blip r:embed="rId1"/>
          <a:stretch/>
        </p:blipFill>
        <p:spPr>
          <a:xfrm>
            <a:off x="838080" y="762120"/>
            <a:ext cx="7137360" cy="488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4" name="Content Placeholder 3" descr="Cast_med.jpg"/>
          <p:cNvPicPr/>
          <p:nvPr/>
        </p:nvPicPr>
        <p:blipFill>
          <a:blip r:embed="rId1"/>
          <a:stretch/>
        </p:blipFill>
        <p:spPr>
          <a:xfrm>
            <a:off x="457200" y="609480"/>
            <a:ext cx="3851280" cy="2892600"/>
          </a:xfrm>
          <a:prstGeom prst="rect">
            <a:avLst/>
          </a:prstGeom>
          <a:ln w="0">
            <a:noFill/>
          </a:ln>
        </p:spPr>
      </p:pic>
      <p:pic>
        <p:nvPicPr>
          <p:cNvPr id="305" name="Picture 4" descr="039_63371annette-funicello-posters.jpg"/>
          <p:cNvPicPr/>
          <p:nvPr/>
        </p:nvPicPr>
        <p:blipFill>
          <a:blip r:embed="rId2"/>
          <a:stretch/>
        </p:blipFill>
        <p:spPr>
          <a:xfrm>
            <a:off x="5029200" y="2057400"/>
            <a:ext cx="3390840" cy="428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7" name="Content Placeholder 3" descr="Loneranger-749790.jpg"/>
          <p:cNvPicPr/>
          <p:nvPr/>
        </p:nvPicPr>
        <p:blipFill>
          <a:blip r:embed="rId1"/>
          <a:stretch/>
        </p:blipFill>
        <p:spPr>
          <a:xfrm>
            <a:off x="2209680" y="380880"/>
            <a:ext cx="3997440" cy="566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dical sciences</a:t>
            </a:r>
            <a:endParaRPr b="0" lang="en-US" sz="4600" spc="-1" strike="noStrike">
              <a:solidFill>
                <a:srgbClr val="ffffff"/>
              </a:solidFill>
              <a:latin typeface="Franklin Gothic Book"/>
            </a:endParaRPr>
          </a:p>
        </p:txBody>
      </p:sp>
      <p:sp>
        <p:nvSpPr>
          <p:cNvPr id="3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biotics and vaccines </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phtheri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yphoid fever</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Jones Salk</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e for polio</a:t>
            </a:r>
            <a:endParaRPr b="0" lang="en-US" sz="24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Albert Sabin </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e an oral version, virtually wiping out polio</a:t>
            </a:r>
            <a:endParaRPr b="0" lang="en-US" sz="24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a:t>
            </a:r>
            <a:endParaRPr b="0" lang="en-US"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mill cars produced in 1946, nearly twice as many in 1955</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75,000 TV's bought in 1948 and 2 years later 7.5 mill sol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60 75% of people owned at least 1 car and 87 % owned at least 1 TV se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ss National Product “GNP” (the total value of countries goods and servic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11" name="Content Placeholder 3" descr="mn_polio.jpg"/>
          <p:cNvPicPr/>
          <p:nvPr/>
        </p:nvPicPr>
        <p:blipFill>
          <a:blip r:embed="rId1"/>
          <a:stretch/>
        </p:blipFill>
        <p:spPr>
          <a:xfrm>
            <a:off x="1219320" y="1722600"/>
            <a:ext cx="5943600" cy="427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an’s place</a:t>
            </a:r>
            <a:endParaRPr b="0" lang="en-US" sz="46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 Benjamin Spock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couraged women to stop beating their children</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men were discouraged from going to college and some studies were done saying that they don’t mind not succeeding personally</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also stated by one professor that women should stay home and give comfort and warmth to the husba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nderson Quintuplets</a:t>
            </a:r>
            <a:endParaRPr b="0" lang="en-US" sz="4600" spc="-1" strike="noStrike">
              <a:solidFill>
                <a:srgbClr val="ffffff"/>
              </a:solidFill>
              <a:latin typeface="Franklin Gothic Book"/>
            </a:endParaRPr>
          </a:p>
        </p:txBody>
      </p:sp>
      <p:pic>
        <p:nvPicPr>
          <p:cNvPr id="315" name="Content Placeholder 3" descr="drspock.jpg"/>
          <p:cNvPicPr/>
          <p:nvPr/>
        </p:nvPicPr>
        <p:blipFill>
          <a:blip r:embed="rId1"/>
          <a:stretch/>
        </p:blipFill>
        <p:spPr>
          <a:xfrm>
            <a:off x="1566720" y="1600200"/>
            <a:ext cx="524844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on Women</a:t>
            </a:r>
            <a:endParaRPr b="0" lang="en-US" sz="46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hn Cheever</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ote a passage describing the women's role as hard and tiring</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ducation system encouraged the girls in school to lead the lives of their mothers,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urvey done in 1962 by Gallup Poll, 90% of mothers did not want them to lead the same l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Questions their roles</a:t>
            </a:r>
            <a:endParaRPr b="0" lang="en-US" sz="46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were left unsatisfied with their lives at home and were also pushed out of their old jobs they had in WWII</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men in lower economic ranks, they began working other jobs, in which from 1940 to 1960, working wives went up from 17% to 32%, 1.5 million to 6.6 mill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21" name="Content Placeholder 3" descr="2098.jpg"/>
          <p:cNvPicPr/>
          <p:nvPr/>
        </p:nvPicPr>
        <p:blipFill>
          <a:blip r:embed="rId1"/>
          <a:stretch/>
        </p:blipFill>
        <p:spPr>
          <a:xfrm>
            <a:off x="1219320" y="914400"/>
            <a:ext cx="6696000" cy="451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keep going</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illed many clerical and secretarial posi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often worked to help pay for the children or vaca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rking class of women was growing so much, the government began making restri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strictions</a:t>
            </a:r>
            <a:endParaRPr b="0" lang="en-US" sz="46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960, census indicated that any families making over $15,000 would have their income cut in half</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aced this problem, as well as neglect and sexism in their jobs and social environments</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received about %40 less pay then men, so their American dreams and rights were undermin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420840" y="3200400"/>
            <a:ext cx="6838920" cy="2444760"/>
          </a:xfrm>
          <a:prstGeom prst="rect">
            <a:avLst/>
          </a:prstGeom>
          <a:ln w="0">
            <a:noFill/>
          </a:ln>
        </p:spPr>
      </p:pic>
      <p:sp>
        <p:nvSpPr>
          <p:cNvPr id="327"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dam Bri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verty and Plenty</a:t>
            </a: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ulture of poverty</a:t>
            </a:r>
            <a:r>
              <a:rPr b="0" lang="en-US" sz="3600" spc="-1" strike="noStrike">
                <a:solidFill>
                  <a:srgbClr val="ffffff"/>
                </a:solidFill>
                <a:latin typeface="Arial"/>
              </a:rPr>
              <a:t>, the poor largely invisible members of a generally affluent American socie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 Cont.</a:t>
            </a:r>
            <a:endParaRPr b="0" lang="en-US" sz="4600" spc="-1" strike="noStrike">
              <a:solidFill>
                <a:srgbClr val="ffffff"/>
              </a:solidFill>
              <a:latin typeface="Franklin Gothic Book"/>
            </a:endParaRPr>
          </a:p>
        </p:txBody>
      </p:sp>
      <p:sp>
        <p:nvSpPr>
          <p:cNvPr id="26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NP rose from 100 billion to 300 billion in 195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l Income=the amount of income earned taking into account an increase in prices increased more than 20%durning the same perio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retionary Income=money to buy what they wanted as well as what they need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dden Poverty</a:t>
            </a:r>
            <a:endParaRPr b="0" lang="en-US" sz="4600" spc="-1" strike="noStrike">
              <a:solidFill>
                <a:srgbClr val="ffffff"/>
              </a:solidFill>
              <a:latin typeface="Franklin Gothic Book"/>
            </a:endParaRPr>
          </a:p>
        </p:txBody>
      </p:sp>
      <p:sp>
        <p:nvSpPr>
          <p:cNvPr id="33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invisible poor” were so well hidden the Fortune magazine stated that less than 1 million poor people were in the U.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asons for Invisibility</a:t>
            </a:r>
            <a:endParaRPr b="0" lang="en-US" sz="46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fontScale="89000"/>
          </a:bodyPr>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pulation of midtown Manhattan dropped from 1.5 million during the day to 2,000 at night</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seemed invisible because they had no effective political voice</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rban poor  in the 1950s included whites, African Americans,  Hispanic Americans, and Native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ulture of Poverty</a:t>
            </a:r>
            <a:endParaRPr b="0" lang="en-US" sz="4600" spc="-1" strike="noStrike">
              <a:solidFill>
                <a:srgbClr val="ffffff"/>
              </a:solidFill>
              <a:latin typeface="Franklin Gothic Book"/>
            </a:endParaRPr>
          </a:p>
        </p:txBody>
      </p:sp>
      <p:sp>
        <p:nvSpPr>
          <p:cNvPr id="335"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after the war had no relief programs to help them out of poverty</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ericans lived on about $2.10</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asons for poverty were varied such as racial inequality towards native Americans and Mexican Americans, as well the elder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Young and Old</a:t>
            </a:r>
            <a:endParaRPr b="0" lang="en-US" sz="4600" spc="-1" strike="noStrike">
              <a:solidFill>
                <a:srgbClr val="ffffff"/>
              </a:solidFill>
              <a:latin typeface="Franklin Gothic Book"/>
            </a:endParaRPr>
          </a:p>
        </p:txBody>
      </p:sp>
      <p:sp>
        <p:nvSpPr>
          <p:cNvPr id="33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lf of the poor was made of children, and many of the others were citizens over 65</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of all the modern technology, many older folks were found without job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ural and Urban Poverty</a:t>
            </a:r>
            <a:endParaRPr b="0" lang="en-US" sz="4600" spc="-1" strike="noStrike">
              <a:solidFill>
                <a:srgbClr val="ffffff"/>
              </a:solidFill>
              <a:latin typeface="Franklin Gothic Book"/>
            </a:endParaRPr>
          </a:p>
        </p:txBody>
      </p:sp>
      <p:sp>
        <p:nvSpPr>
          <p:cNvPr id="339"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w technologies made it easy for big farms to rule out small farm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in coal demand put 70% of coal workers out of busines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crowded into the rural areas, making living conditions har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frican Americans</a:t>
            </a:r>
            <a:endParaRPr b="0" lang="en-US" sz="4600" spc="-1" strike="noStrike">
              <a:solidFill>
                <a:srgbClr val="ffffff"/>
              </a:solidFill>
              <a:latin typeface="Franklin Gothic Book"/>
            </a:endParaRPr>
          </a:p>
        </p:txBody>
      </p:sp>
      <p:sp>
        <p:nvSpPr>
          <p:cNvPr id="341"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frican American farmers in the south shared their poverty with their white counterparts, however, in the cities they lived there with the fear of the KKK and their harsh racial terrorism.</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about half as much as whites, schools still segreg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spanic</a:t>
            </a:r>
            <a:endParaRPr b="0" lang="en-US" sz="4600" spc="-1" strike="noStrike">
              <a:solidFill>
                <a:srgbClr val="ffffff"/>
              </a:solidFill>
              <a:latin typeface="Franklin Gothic Book"/>
            </a:endParaRPr>
          </a:p>
        </p:txBody>
      </p:sp>
      <p:sp>
        <p:nvSpPr>
          <p:cNvPr id="34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of nations second largest minority</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enerally found jobs more than men, flipping the husband-wife relationship</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re politically insecur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gricultural workers</a:t>
            </a:r>
            <a:endParaRPr b="0" lang="en-US" sz="4600" spc="-1" strike="noStrike">
              <a:solidFill>
                <a:srgbClr val="ffffff"/>
              </a:solidFill>
              <a:latin typeface="Franklin Gothic Book"/>
            </a:endParaRPr>
          </a:p>
        </p:txBody>
      </p:sp>
      <p:sp>
        <p:nvSpPr>
          <p:cNvPr id="345"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xicans made up most of this group, however there were Puerto Ricans, poor whites, and African Americans</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ed 10 to 12 hour days, were not helped by the labor laws, children worked along side par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isplaced Native Americans</a:t>
            </a:r>
            <a:endParaRPr b="0" lang="en-US" sz="4600" spc="-1" strike="noStrike">
              <a:solidFill>
                <a:srgbClr val="ffffff"/>
              </a:solidFill>
              <a:latin typeface="Franklin Gothic Book"/>
            </a:endParaRPr>
          </a:p>
        </p:txBody>
      </p:sp>
      <p:sp>
        <p:nvSpPr>
          <p:cNvPr id="347" name="PlaceHolder 2"/>
          <p:cNvSpPr>
            <a:spLocks noGrp="1"/>
          </p:cNvSpPr>
          <p:nvPr>
            <p:ph/>
          </p:nvPr>
        </p:nvSpPr>
        <p:spPr>
          <a:xfrm>
            <a:off x="456840" y="1600200"/>
            <a:ext cx="7467480" cy="4525920"/>
          </a:xfrm>
          <a:prstGeom prst="rect">
            <a:avLst/>
          </a:prstGeom>
          <a:noFill/>
          <a:ln w="0">
            <a:noFill/>
          </a:ln>
        </p:spPr>
        <p:txBody>
          <a:bodyPr anchor="t">
            <a:normAutofit fontScale="92000"/>
          </a:bodyPr>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tive Americans were one of the poorest, smallest and ignored groups</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only 15%-20% of Native Americans were employed</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se that moved to the cities faced the same discrimination as Hispanic Americans and African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ermination policy</a:t>
            </a:r>
            <a:endParaRPr b="0" lang="en-US" sz="4600" spc="-1" strike="noStrike">
              <a:solidFill>
                <a:srgbClr val="ffffff"/>
              </a:solidFill>
              <a:latin typeface="Franklin Gothic Book"/>
            </a:endParaRPr>
          </a:p>
        </p:txBody>
      </p:sp>
      <p:sp>
        <p:nvSpPr>
          <p:cNvPr id="349"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1953, Federal government adopted a policy to end the reservations system and terminate Federal services to Native American groups</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resulted in the loss of thousands of acres of Native American land</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king political power, any protests were ignored, and they were left unnotic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ersuading the Consumer</a:t>
            </a:r>
            <a:endParaRPr b="0" lang="en-US"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vertisement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 one of the fastest growing</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stries help grow bigger </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TV</a:t>
            </a:r>
            <a:endParaRPr b="0" lang="en-US" sz="24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ould make false statement</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 to make you buy there product over others make there item seem better.</a:t>
            </a:r>
            <a:endParaRPr b="0" lang="en-US" sz="24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 a second car was a status symbol, mouthwash was the key to immediate social success</a:t>
            </a:r>
            <a:endParaRPr b="0" lang="en-US" sz="3000" spc="-1" strike="noStrike">
              <a:solidFill>
                <a:srgbClr val="ffffff"/>
              </a:solidFill>
              <a:latin typeface="Arial"/>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ontent Placeholder 3" descr="TK-40A-1_RCAmanual-web.jpg"/>
          <p:cNvPicPr/>
          <p:nvPr/>
        </p:nvPicPr>
        <p:blipFill>
          <a:blip r:embed="rId1"/>
          <a:stretch/>
        </p:blipFill>
        <p:spPr>
          <a:xfrm>
            <a:off x="0" y="0"/>
            <a:ext cx="4981680" cy="3870360"/>
          </a:xfrm>
          <a:prstGeom prst="rect">
            <a:avLst/>
          </a:prstGeom>
          <a:ln w="0">
            <a:noFill/>
          </a:ln>
        </p:spPr>
      </p:pic>
      <p:pic>
        <p:nvPicPr>
          <p:cNvPr id="265" name="Picture 4" descr="ct100-assemblyline.jpg"/>
          <p:cNvPicPr/>
          <p:nvPr/>
        </p:nvPicPr>
        <p:blipFill>
          <a:blip r:embed="rId2"/>
          <a:stretch/>
        </p:blipFill>
        <p:spPr>
          <a:xfrm>
            <a:off x="4141800" y="2743200"/>
            <a:ext cx="50022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vie</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mpact of the GI bill</a:t>
            </a: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passed by congress in 1944.</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mass production the housing industry built 13 million new home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use ownership went from 44 to 62% from 1940 to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new world of business</a:t>
            </a: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gger the Better</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bm jumped from 119.4 million in 1946 to 1.7 billion in 1961</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 motors doubled its net assets during the 1950s from 1.5 billion in 1951 to 2.8 billion in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9:30:58Z</dcterms:created>
  <dc:creator>ASD</dc:creator>
  <dc:description/>
  <dc:language>en-US</dc:language>
  <cp:lastModifiedBy>Edythe</cp:lastModifiedBy>
  <dcterms:modified xsi:type="dcterms:W3CDTF">2010-07-06T18:04:09Z</dcterms:modified>
  <cp:revision>8</cp:revision>
  <dc:subject/>
  <dc:title>Slide 1</dc:title>
</cp:coreProperties>
</file>